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724-CB36-4A4E-9C99-FAFE99B2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835-D2E5-4613-985B-E905F2DA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412-257C-4BC1-8C6B-414D8C42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4BF-9E0B-440F-AA76-05D165CA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EFA-F2CB-40D9-989A-8B27246A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88B-E3E7-461F-8E9B-A897CFF2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01C-3287-4456-BCF6-68F0DACF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09C-511A-438F-B8F9-2C7AA57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7D8-9CB9-4250-838F-F901DDC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FF8-4AA4-4166-AD5E-DA61589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16D-9232-40C4-820E-FA1E875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AA1-D604-4AC1-AD52-0B2C67D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5AA3-BA33-4734-B260-CE3BC374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765000"/>
            <a:ext cx="784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.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 understand techniques used in adverts to persuade aud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413000"/>
            <a:ext cx="201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 lo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 need for ‘Nike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45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’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300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shown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44500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gan (Is it run on air? Will you run on air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765000"/>
            <a:ext cx="31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k background highlights trainers/ logos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492280"/>
            <a:ext cx="2016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light suggests spaceshi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ist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40000" y="3284640"/>
            <a:ext cx="1295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435280" y="17002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35280" y="450828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56000" y="4220640"/>
            <a:ext cx="287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197000"/>
            <a:ext cx="71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997360"/>
            <a:ext cx="151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997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duct is enough to advertise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716360" y="2924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9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gan bold and capit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8000" y="407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10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29196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0:11:11Z</dcterms:created>
  <dc:creator>Jon Hall</dc:creator>
  <dc:description/>
  <dc:language>en-US</dc:language>
  <cp:lastModifiedBy>Sophie Williams</cp:lastModifiedBy>
  <dcterms:modified xsi:type="dcterms:W3CDTF">2007-01-24T15:52:00Z</dcterms:modified>
  <cp:revision>5</cp:revision>
  <dc:subject/>
  <dc:title>Slide 1</dc:title>
</cp:coreProperties>
</file>